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5BB-0955-43AB-AC22-2BD4CFD1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3F6-21DF-489B-8635-05994579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480-9711-42B9-A0BE-71BAD7B9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47A-20AA-4088-AE7C-366852C2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00DE-2AE6-43C0-A383-F2AF1DA0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3D4C-C5A0-499F-811B-DB7222C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F3FA-3B29-4413-B5F4-B435FCD0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E73C-332F-4C0D-BF25-DE70CDC9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FCE3-A9DE-4976-8F7B-10A657D8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E2B4-7FCB-41FC-AC86-0157C056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7898-22B2-42AD-B22D-A4A3A379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52E-4569-4A84-8EFF-0B40D105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D788-B1FD-4BF8-BA53-48E1E5B6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8C77-42D5-4736-A4E4-485EF412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971A-AE46-405D-88F4-0C5F4AC0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7B3F-C254-4FDE-9B16-896095F6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87A9-1A62-49E3-92A8-DB5ACC30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961-6FAF-4D31-B120-62982008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6D5-3BC3-432E-B6D1-11D61099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14E-5D4E-47AD-AFFC-D1CD9E87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628-63D4-4499-9416-FA9C00E5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867-33CC-460E-8D45-816A1B2F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095-D475-4B9C-92AC-15BF856F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CDD-C468-4F66-80B6-2F88B5F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8C01-CF45-4E9B-9B3D-4358EB79F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CE4D-D1B5-458A-A6CE-9904F6C93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838080"/>
            <a:ext cx="86868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I Nº 7.805, DE 18 DE JULHO DE 1989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 o Decreto-lei nº 227, cria o regime de permissão de lavra garimpeira, extingue o regime de matrícula, e dá outras providênci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 concessão de lavra depende de prévio licenciamento do órgão ambiental compet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7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 realização de trabalhos de pesquisa e lavra em áreas de conservação dependerá de prévia autorização do órgão ambiental que as administ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8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Os trabalhos de pesquisa ou lavra que causarem danos ao meio ambiente são passíveis de suspensão temporária ou definitiva, de acordo com parecer do órgão ambiental competent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40:33Z</dcterms:modified>
  <cp:revision>70</cp:revision>
  <dc:subject/>
  <dc:title>Apresentação do PowerPoint</dc:title>
</cp:coreProperties>
</file>